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B7C0-4FA3-45D1-8B70-ACA2CF781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BDD9-3037-4D25-AFF9-1B3A9F02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2BAD-B1FD-4E05-AD1C-677ACFDB2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9A30-AF20-41A9-8160-0A56F2205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9A9A-CB81-412A-BAF8-B3F079E8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C508-C010-4DB4-A2E6-7E1CD491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6AFB-09B3-4ADC-AD93-4BA20004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F9DC-CB75-4342-B2B0-4FBD3991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A7F5-35EF-41F2-A73E-84903DB5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95AE-FC12-4F56-BCA1-B20083D7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4243-33F7-449F-A5DA-17FD2D68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8D09-7E44-4EC2-AE42-AFC06002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BBA2-B867-40CA-9F6F-C3D147371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Método para moldagem e duplicação de peças em resina acríl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O objetivo desse trabalho é duplicar a peça esticadora de corrente, não disponível no mercado, de uma moto importada. Nesse caso só havia disponível uma delas, ainda assim, faltando um pedaç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Será descrita uma  técnica para obtenção de um modelo íntegro para moldagem e confecção de duas réplicas em resina acrílica, a serem instaladas nos lados direito e esquerdo do eixo de roda trazei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A mesma técnica pode ser utilizada para duplicar emblemas não disponíveis no mercado, como a PUMA SENT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Sergio Fol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Jun08%2350" descr=""/>
          <p:cNvPicPr/>
          <p:nvPr/>
        </p:nvPicPr>
        <p:blipFill>
          <a:blip r:embed="rId1"/>
          <a:stretch/>
        </p:blipFill>
        <p:spPr>
          <a:xfrm>
            <a:off x="355680" y="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75" name="Jun08%2349" descr=""/>
          <p:cNvPicPr/>
          <p:nvPr/>
        </p:nvPicPr>
        <p:blipFill>
          <a:blip r:embed="rId2"/>
          <a:stretch/>
        </p:blipFill>
        <p:spPr>
          <a:xfrm>
            <a:off x="4800600" y="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3048120"/>
            <a:ext cx="9144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Como pode ser observado, acabei o serviço quase de noite, prejudicando qualidade da foto, mas de qualquer forma a técnica ficou registr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Espero ter contribuido para viabilizar a confecção do emblem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                                          </a:t>
            </a: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PUMA SENT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Abraço, Sergio Fol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folli@apcd.org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Método para moldagem e duplicação de peças em resina acríl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Jun08%2344" descr=""/>
          <p:cNvPicPr/>
          <p:nvPr/>
        </p:nvPicPr>
        <p:blipFill>
          <a:blip r:embed="rId1"/>
          <a:stretch/>
        </p:blipFill>
        <p:spPr>
          <a:xfrm>
            <a:off x="279360" y="990720"/>
            <a:ext cx="4064040" cy="3047760"/>
          </a:xfrm>
          <a:prstGeom prst="rect">
            <a:avLst/>
          </a:prstGeom>
          <a:ln w="0">
            <a:noFill/>
          </a:ln>
        </p:spPr>
      </p:pic>
      <p:pic>
        <p:nvPicPr>
          <p:cNvPr id="45" name="Jun08%2324" descr=""/>
          <p:cNvPicPr/>
          <p:nvPr/>
        </p:nvPicPr>
        <p:blipFill>
          <a:blip r:embed="rId2"/>
          <a:stretch/>
        </p:blipFill>
        <p:spPr>
          <a:xfrm>
            <a:off x="4800600" y="990720"/>
            <a:ext cx="4064040" cy="3047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403848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Figura 1: mostra o esticador faltando um terço na parte infer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Figura 2: moldagem da metade íntegra da peça, com ALGINA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Jun08%2325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064040" cy="3047760"/>
          </a:xfrm>
          <a:prstGeom prst="rect">
            <a:avLst/>
          </a:prstGeom>
          <a:ln w="0">
            <a:noFill/>
          </a:ln>
        </p:spPr>
      </p:pic>
      <p:pic>
        <p:nvPicPr>
          <p:cNvPr id="48" name="Jun08%2326" descr=""/>
          <p:cNvPicPr/>
          <p:nvPr/>
        </p:nvPicPr>
        <p:blipFill>
          <a:blip r:embed="rId2"/>
          <a:stretch/>
        </p:blipFill>
        <p:spPr>
          <a:xfrm>
            <a:off x="4724280" y="304920"/>
            <a:ext cx="4064040" cy="3047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" y="35812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Obtido o molde da metade íntegra, a peça foi “girada” dentro do molde e o espaço vazio, referente à fratura, foi preenchido com cera para obtermos uma peça inteira, que servirá de padr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Jun08%2327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51" name="Jun08%2320" descr=""/>
          <p:cNvPicPr/>
          <p:nvPr/>
        </p:nvPicPr>
        <p:blipFill>
          <a:blip r:embed="rId2"/>
          <a:stretch/>
        </p:blipFill>
        <p:spPr>
          <a:xfrm>
            <a:off x="4800600" y="45720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4027320"/>
            <a:ext cx="84582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Figura 1 mostra o padrão obtido com sua recuperação. O lado de baixo, que tinha encaixes, foi preenchido com cera dura, mais precisa, de cor beje e a parte de cima foi preenchida com cera rosa que tem custo muito mais baix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Figura 2 mostra o padrão sendo moldado, desta vez com silicone, pois faremos duas peças no mesmo molde. O alginato poderia ser usado, mas somente uma vez, por ser mais frágil (e barat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Jun08%2321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54" name="Jun08%2322" descr=""/>
          <p:cNvPicPr/>
          <p:nvPr/>
        </p:nvPicPr>
        <p:blipFill>
          <a:blip r:embed="rId2"/>
          <a:stretch/>
        </p:blipFill>
        <p:spPr>
          <a:xfrm>
            <a:off x="4800600" y="297180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0"/>
            <a:ext cx="8534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Sendo o silicone, assim como o alginato, bastante flexível, é fácil remover o padrão moldad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Figura 1: padrão sendo remov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Figura 2: padrão totalmente removido, deixando uma moldagem (negativo) pronta para ser preenchida com resina acril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Jun08%2330" descr=""/>
          <p:cNvPicPr/>
          <p:nvPr/>
        </p:nvPicPr>
        <p:blipFill>
          <a:blip r:embed="rId1"/>
          <a:stretch/>
        </p:blipFill>
        <p:spPr>
          <a:xfrm>
            <a:off x="279360" y="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57" name="Jun08%2332" descr=""/>
          <p:cNvPicPr/>
          <p:nvPr/>
        </p:nvPicPr>
        <p:blipFill>
          <a:blip r:embed="rId2"/>
          <a:stretch/>
        </p:blipFill>
        <p:spPr>
          <a:xfrm>
            <a:off x="4800600" y="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58" name="Jun08%2333" descr=""/>
          <p:cNvPicPr/>
          <p:nvPr/>
        </p:nvPicPr>
        <p:blipFill>
          <a:blip r:embed="rId3"/>
          <a:stretch/>
        </p:blipFill>
        <p:spPr>
          <a:xfrm>
            <a:off x="228600" y="38862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59" name="Jun08%2334" descr=""/>
          <p:cNvPicPr/>
          <p:nvPr/>
        </p:nvPicPr>
        <p:blipFill>
          <a:blip r:embed="rId4"/>
          <a:stretch/>
        </p:blipFill>
        <p:spPr>
          <a:xfrm>
            <a:off x="4724280" y="388620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2971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A resina acrílica é preparada misturando o líquido ao pó. Para dispensar pintura, a coloração foi obtida acrescentando-se pó de grafite à mistur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Jun08%2335" descr=""/>
          <p:cNvPicPr/>
          <p:nvPr/>
        </p:nvPicPr>
        <p:blipFill>
          <a:blip r:embed="rId1"/>
          <a:stretch/>
        </p:blipFill>
        <p:spPr>
          <a:xfrm>
            <a:off x="279360" y="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62" name="Jun08%2336" descr=""/>
          <p:cNvPicPr/>
          <p:nvPr/>
        </p:nvPicPr>
        <p:blipFill>
          <a:blip r:embed="rId2"/>
          <a:stretch/>
        </p:blipFill>
        <p:spPr>
          <a:xfrm>
            <a:off x="4800600" y="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63" name="Jun08%2339" descr=""/>
          <p:cNvPicPr/>
          <p:nvPr/>
        </p:nvPicPr>
        <p:blipFill>
          <a:blip r:embed="rId3"/>
          <a:stretch/>
        </p:blipFill>
        <p:spPr>
          <a:xfrm>
            <a:off x="4800600" y="388620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3200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A mistura tem que ser imediata e rapidamente vertida no mol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809880"/>
            <a:ext cx="4724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A consistência pode ser controlada com a quantidade de líquido. Sua superfície pode ser alisada com o dedo molhado no próprio líquido da resina. Temperaturas mais altas aceleram a reação. De qualquer maneira, mesmo no frio, o tempo para preencher o molde não é lon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Jun08%2340" descr=""/>
          <p:cNvPicPr/>
          <p:nvPr/>
        </p:nvPicPr>
        <p:blipFill>
          <a:blip r:embed="rId1"/>
          <a:stretch/>
        </p:blipFill>
        <p:spPr>
          <a:xfrm>
            <a:off x="0" y="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67" name="Jun08%2341" descr=""/>
          <p:cNvPicPr/>
          <p:nvPr/>
        </p:nvPicPr>
        <p:blipFill>
          <a:blip r:embed="rId2"/>
          <a:stretch/>
        </p:blipFill>
        <p:spPr>
          <a:xfrm>
            <a:off x="5079960" y="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68" name="Jun08%2345" descr=""/>
          <p:cNvPicPr/>
          <p:nvPr/>
        </p:nvPicPr>
        <p:blipFill>
          <a:blip r:embed="rId3"/>
          <a:stretch/>
        </p:blipFill>
        <p:spPr>
          <a:xfrm>
            <a:off x="5079960" y="388620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3124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Completada a reação (exotérmica) a nova peça é removida do mold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505320"/>
            <a:ext cx="49528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pode receber o acabamento necessário com esmeril, lixa, polimento ou pintura, conforme sua necessid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Observe a qualidade obtida e a coservação impecável do molde, que será usado novamente para conseguir a segunda peça igual a es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Jun08%2346" descr=""/>
          <p:cNvPicPr/>
          <p:nvPr/>
        </p:nvPicPr>
        <p:blipFill>
          <a:blip r:embed="rId1"/>
          <a:stretch/>
        </p:blipFill>
        <p:spPr>
          <a:xfrm>
            <a:off x="0" y="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72" name="Jun08%2347" descr=""/>
          <p:cNvPicPr/>
          <p:nvPr/>
        </p:nvPicPr>
        <p:blipFill>
          <a:blip r:embed="rId2"/>
          <a:stretch/>
        </p:blipFill>
        <p:spPr>
          <a:xfrm>
            <a:off x="5079960" y="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3200400"/>
            <a:ext cx="91440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Aspecto final das peças acabadas. Observe também a mesma técnica aplicada para duplicar emblemas da pu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Nos emblemas, molda-se a parte externa, e seu verso será plano para ser colado, ou podem ser colocados parafusos espetados no acrilico ainda mole, para que a peça possa ser fixada numa superfície furada, com porca do lado inter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imes New Roman"/>
              </a:rPr>
              <a:t>Nas peças da moto, foi respeitado o lado interno, que encaixava no braço da suspensão, deixando plano seu lado exter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8T21:48:03Z</dcterms:created>
  <dc:creator>Sergio Folli</dc:creator>
  <dc:description/>
  <dc:language>en-US</dc:language>
  <cp:lastModifiedBy>Sergio Folli</cp:lastModifiedBy>
  <dcterms:modified xsi:type="dcterms:W3CDTF">2003-06-08T23:47:40Z</dcterms:modified>
  <cp:revision>1</cp:revision>
  <dc:subject/>
  <dc:title>Slide sem título </dc:title>
</cp:coreProperties>
</file>